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1DB-5DD2-41EF-A78F-31A35958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B7B-102C-4EA6-963D-45B92E59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FCC-0BC4-4DFB-9538-68F9572B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B07-A262-4838-8D76-5571FBFCA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FFE-7944-4DC1-B360-B38B033C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9AA-D223-4948-BBFB-D6CC13CE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D93B-7AE6-440A-91CA-0E849C5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B64-A43C-45FA-8789-1D1E1A05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A2D-A16D-4DDE-B03F-B9997DFF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D67-583A-42C8-A980-02CBE899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4B7-45E0-4148-AA68-69CF10D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F72-71A2-4815-B9C6-7727D6B8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CS LAL 23/9/05 J.E Campa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2320-5770-4E09-9F74-45A5FB28CA0F}" type="slidenum">
              <a:rPr b="0" lang="en-US" sz="1400" spc="-1" strike="noStrike">
                <a:solidFill>
                  <a:srgbClr val="33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scillations des Neutrino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388620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OPERA-LAL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Programme Neutrinos sur Acc. France… 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800" y="1216080"/>
            <a:ext cx="7719840" cy="5452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 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33640" y="1365120"/>
            <a:ext cx="6876720" cy="4943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5950080"/>
            <a:ext cx="2087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PERA/CN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mposition du groupe LAL: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-P Repellin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éméritat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J. Boucro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prendra sa retraite mi-2006 (nb: A. Cazes en post-doc à Frascati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Activité principale centrée sur la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maintenanc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du code d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Tracking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car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Électroniqu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(« très robuste » d’après Y. Decla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as de propositions de thèse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pour le momen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Concernant les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Cornes CNG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(depuis l’évaluation CNRS de Fév. 05):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nexion Électrique Rapide acceptée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sans réserve par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nducteur Interne du Réflecteur réceptionné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onjointement par le LAL et le CER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Corne n°2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livrée non modifié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e CERN  a quelques difficultés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mettre en œuvre les modifications qu’il souhaitait effectuer sur la Corne n°1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Fin du partenariat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CERN-IN2P3-LAL au terme d’un C.S.P le 7/10/05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Comic Sans MS"/>
              </a:rPr>
              <a:t>News d’OPERA au G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755640" y="1052640"/>
            <a:ext cx="723744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1557360"/>
            <a:ext cx="70329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aimant: 100%, 2nd en cours de 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00% des RPCs fonction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2/3 du SM1 équipé de murs de Tracker + Support des 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La machine à assembler les Briques fonctionne parfaitement (production début janvier 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1er manipulateur de Briques opérationnel au 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78% des émulsions produites, 50% prêtes, 30% au 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Microscope Japonais a atteint la vitesse nominale (20cm</a:t>
            </a:r>
            <a:r>
              <a:rPr b="1" lang="fr-FR" sz="18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/h) avec potentialité d’un facteu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6 microscopes Europe ont atteint la vitesse no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Pb a du retard (procédure de lav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u 2nd Precision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66ff"/>
                </a:solidFill>
                <a:latin typeface="Arial"/>
              </a:rPr>
              <a:t>Financement des 22% des émulsions restantes (réunion des Agences de Moyens prévues d’ici 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74720" y="604044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isceau Mai 200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R&amp;D PMM2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Futur « projet » en gestation:</a:t>
            </a: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 Détecteur MEMPHY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(20 x SuperK) au Fréjus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le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rix des PMTs est un facteur déterminant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Photonis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est sur les rangs avec une solution « petits PMTs »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Électronique Frontale associée (ANR/GIS Photonis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enaires: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4 I dont J. Pouthas, 1AI, 1Proj.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(Ch. De La Taille, N. Seguin-Moreau, 1 P.Doc),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hotonis. 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Part du LAL: étude de l’ASIC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de lecture (ADC/TDC compris) de 16 canaux (mi-2005 </a:t>
            </a:r>
            <a:r>
              <a:rPr b="0" lang="fr-FR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mi-2007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Part l’IPNO: mécanique (immersion dans l’eau) + tests PMTs avec Photonis (déjà dans le cadre du GIP)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Demande globale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ANR</a:t>
            </a:r>
            <a:r>
              <a:rPr b="0" lang="fr-FR" sz="2000" spc="-1" strike="noStrike">
                <a:solidFill>
                  <a:srgbClr val="333399"/>
                </a:solidFill>
                <a:latin typeface="Comic Sans MS"/>
              </a:rPr>
              <a:t> à hauteur de 700k€ (36mois) dont 200k€ pour PMM2 dont 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50k€ pour le LAL. Si l’ANR ne répond pas 10k€ permettrait d’amorcer la pompe.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D’autres labos sont intéressés: LLR, LPNHE, DAPN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5253120" y="6093000"/>
            <a:ext cx="388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Arial"/>
              </a:rPr>
              <a:t>PMM2: PhotoMultiplicateur pour 1m</a:t>
            </a:r>
            <a:r>
              <a:rPr b="0" lang="fr-FR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lectronic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009999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: 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5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en-US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6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"/>
            <p:cNvCxnSpPr>
              <a:stCxn id="68" idx="1"/>
              <a:endCxn id="6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8" idx="3"/>
              <a:endCxn id="5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8" idx="3"/>
              <a:endCxn id="6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64" idx="0"/>
              <a:endCxn id="6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7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66" idx="3"/>
            <a:endCxn id="7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7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4" idx="3"/>
            <a:endCxn id="5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19040" y="61657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Mechanics &amp; PM test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Résumé des activités Osc. </a:t>
            </a:r>
            <a:r>
              <a:rPr b="0" lang="fr-FR" sz="2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0" lang="fr-FR" sz="2800" spc="-1" strike="noStrike">
                <a:solidFill>
                  <a:srgbClr val="333399"/>
                </a:solidFill>
                <a:latin typeface="Comic Sans MS"/>
              </a:rPr>
              <a:t> sur Acc. en France…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IPNL-IReS-LAPP-</a:t>
            </a:r>
            <a:r>
              <a:rPr b="0" i="1" lang="fr-FR" sz="2400" spc="-1" strike="noStrike">
                <a:solidFill>
                  <a:srgbClr val="333399"/>
                </a:solidFill>
                <a:latin typeface="Comic Sans MS"/>
              </a:rPr>
              <a:t>JE/JB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: OPERA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: K2K analyse du 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Id. 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  + LPNHE + LLR: T2K-I détecteur proche à 280m approuvé  : « Accélérateur » + TPC électronique FE (flux, spectre x-sections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-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DAPNIA+IPNL+…: T2K-I détecteur proche à 2km non encore approuvé (2010?) mais nécessaire (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ff0000"/>
                </a:solidFill>
                <a:latin typeface="Comic Sans MS"/>
              </a:rPr>
              <a:t>0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Č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  + LAr TPC)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Pré-étude de grande cavité au Fréjus en cours: 4 puits de 250,000m</a:t>
            </a:r>
            <a:r>
              <a:rPr b="0" lang="fr-FR" sz="2400" spc="-1" strike="noStrike" baseline="30000">
                <a:solidFill>
                  <a:srgbClr val="333399"/>
                </a:solidFill>
                <a:latin typeface="Comic Sans MS"/>
              </a:rPr>
              <a:t>3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réalisables (dixit société ayant construit le tunnel routier)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66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66cc"/>
                </a:solidFill>
                <a:latin typeface="Comic Sans MS"/>
              </a:rPr>
              <a:t>France: GDR </a:t>
            </a:r>
            <a:r>
              <a:rPr b="1" lang="fr-FR" sz="2400" spc="-1" strike="noStrike">
                <a:solidFill>
                  <a:srgbClr val="ff66cc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</a:t>
            </a:r>
            <a:r>
              <a:rPr b="0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fr-FR" sz="2400" spc="-1" strike="noStrike">
                <a:solidFill>
                  <a:srgbClr val="ff6600"/>
                </a:solidFill>
                <a:latin typeface="Comic Sans MS"/>
              </a:rPr>
              <a:t>Europe: BENE(CARE)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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Mondial: 1 an Int. Scoping Studies: </a:t>
            </a:r>
            <a:r>
              <a:rPr b="0" lang="fr-FR" sz="2400" spc="-1" strike="noStrike">
                <a:solidFill>
                  <a:srgbClr val="333399"/>
                </a:solidFill>
                <a:latin typeface="Comic Sans MS"/>
              </a:rPr>
              <a:t>1er WS au CERN 22-24/9/05, puis KEK jan. 06, RAL avr. 06 pour présenter à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NuFact06 (US) le résultat et lancer une Design Study mondiale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240" y="64911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: 2009-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Comic Sans MS"/>
              </a:rPr>
              <a:t>Actions de J.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Groupes Détecteur et Accélérateur dans la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coping Studie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SuperBeam et </a:t>
            </a:r>
            <a:r>
              <a:rPr b="1" lang="fr-FR" sz="24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Factor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Simulation des performances de physique du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PL-Fréjus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Combinaison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Super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J.E) avec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M. Mezzetto) + </a:t>
            </a:r>
            <a:r>
              <a:rPr b="1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(Th. Schwetz, M. Maltoni) pour préparer une contribution à un livre blanc Mt-Fréj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R&amp;D Électronique Mégatonne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MM2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52236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Pt. du C.S de Modane</a:t>
            </a:r>
            <a:r>
              <a:rPr b="1" lang="fr-FR" sz="2400" spc="-1" strike="noStrike">
                <a:solidFill>
                  <a:srgbClr val="333399"/>
                </a:solidFill>
                <a:latin typeface="Comic Sans MS"/>
              </a:rPr>
              <a:t> qui examinera dans ce cadre l’étude d’une nouvelle cavité pour le Mt.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2K-I, T2K-II:T2HK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5543280" cy="381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5832720" cy="1133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2205000"/>
            <a:ext cx="18716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27280" y="2205000"/>
            <a:ext cx="316872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72360" y="1484280"/>
            <a:ext cx="252072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roblème principal de T2K-II est  qu’ils ne pourront pas atteindre 4MW avec une techno. chau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1484280"/>
            <a:ext cx="3527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860640"/>
            <a:ext cx="25210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génieurs de KEK anticipent un démarrage de T2K en douc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03080" y="602136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: p 50GeV/0,75kW,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K-II: 4MW, HK: 20x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1800" y="638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995640" y="6093000"/>
            <a:ext cx="0" cy="288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7:34:21Z</dcterms:created>
  <dc:creator>J.E Campagne</dc:creator>
  <dc:description/>
  <dc:language>en-US</dc:language>
  <cp:lastModifiedBy>J.E Campagne</cp:lastModifiedBy>
  <dcterms:modified xsi:type="dcterms:W3CDTF">2005-09-16T08:55:48Z</dcterms:modified>
  <cp:revision>34</cp:revision>
  <dc:subject/>
  <dc:title>Osc. Neutrinos</dc:title>
</cp:coreProperties>
</file>